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5D8-8AC5-4708-AA29-CEF7D877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B86-E4A0-4BB9-94AF-F24F1FCC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70E-0D53-420C-B409-CE7DC9D14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E93C-76CF-4A9B-B524-2DBB2E93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0E68-7164-4CCD-A4EE-00B506CB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52A-6FD8-4452-A135-8905F85E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C430-712C-4CE7-8992-89A0E683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01DCC-A8D0-405B-B8A6-579FC9B1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57C9-C216-4783-A54A-9758654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5A41-BC8B-4865-AD74-8B49515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4199-F902-4E90-A88A-6C81780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F28-72A0-4FF5-BAA3-FC347276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07A5-0293-4E18-8F18-C651DF4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4C4D-7F89-440D-A17C-5C17619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B7A7-D15A-4E36-BC68-101447B8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3338-58BA-4AE0-8A32-6A82D7F7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8E47-1544-4002-8167-6EBA9605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36F-9302-47D8-93DC-A4566DB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F8FA-4D49-4661-BB58-C1C91DA3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E89-7A9A-4E18-B537-DE0326C6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C812-3F79-4C03-8DCB-D921694E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22F-4537-4F3C-937A-DD63DB2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DE9-7F8A-46DE-B764-44A8A968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4D3-0A25-4E1E-A88B-943EC61B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354D-0100-4AAB-9C7C-1360EC4FD2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7F76-1A6A-4B02-8A71-8FAF8EB267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ge 15 – Lección Prelimin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vancemos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member that ser and estar both mean “to be.”  They are used in different situations and have different mean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et´s talk about the uses of SER fir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4952880"/>
            <a:ext cx="4191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describe permanent CHARACTERISTICS of objects and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a canción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origi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origin, nationality, or prof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i tí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critora. 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Madr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when and where something takes pl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ciert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l viernes.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 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teat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SER to indicate poss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guitarr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 Eli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describe temporary characteristics, emotional states, or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teatr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cerrado a esta ho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 actores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nervios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indicate lo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onjunto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n el escen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e ESTAR to form the progressive te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bailarín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interpretando a Cab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ome adjectives have different meanings depending on whether they are used with </a:t>
            </a:r>
            <a:r>
              <a:rPr b="0" i="1" lang="es-ES" sz="3200" spc="-1" strike="noStrike">
                <a:solidFill>
                  <a:srgbClr val="3399ff"/>
                </a:solidFill>
                <a:latin typeface="Arial"/>
              </a:rPr>
              <a:t>ser</a:t>
            </a:r>
            <a:r>
              <a:rPr b="0" lang="es-ES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or with </a:t>
            </a:r>
            <a:r>
              <a:rPr b="0" i="1" lang="es-ES" sz="3200" spc="-1" strike="noStrike">
                <a:solidFill>
                  <a:srgbClr val="3399ff"/>
                </a:solidFill>
                <a:latin typeface="Arial"/>
              </a:rPr>
              <a:t>esta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bailarin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 bon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The dancer is pret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bailarina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está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muy </a:t>
            </a:r>
            <a:r>
              <a:rPr b="1" lang="es-ES" sz="3200" spc="-1" strike="noStrike">
                <a:solidFill>
                  <a:srgbClr val="3399ff"/>
                </a:solidFill>
                <a:latin typeface="Arial"/>
              </a:rPr>
              <a:t>bonit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ho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(The dancer looks pretty toda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Ser vs. Esta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ómico es aburr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bor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ómico está aburr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bored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cantante es 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He is wealthy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postre está 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(It is rich-tasting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19:46:05Z</dcterms:created>
  <dc:creator> John McCreary</dc:creator>
  <dc:description/>
  <dc:language>en-US</dc:language>
  <cp:lastModifiedBy>Local User</cp:lastModifiedBy>
  <dcterms:modified xsi:type="dcterms:W3CDTF">2009-08-17T20:36:25Z</dcterms:modified>
  <cp:revision>4</cp:revision>
  <dc:subject/>
  <dc:title>Ser vs. Estar</dc:title>
</cp:coreProperties>
</file>